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camera.wav" ContentType="audio/x-wav"/>
  <Override PartName="/ppt/media/image5.jpeg" ContentType="image/jpeg"/>
  <Override PartName="/ppt/media/image6.jpeg" ContentType="image/jpeg"/>
  <Override PartName="/ppt/media/image8.png" ContentType="image/pn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8E91-7747-4D99-80D0-C18349DC0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is an active process when children interact with their physical environment.  It is our role as teachers to provide the best materials to assist this process.  Pattern blocks are one of the tools which will provide our students with a dynamic learning experi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ideo will introduce you to the pattern blocks and a variety of ways in which they can be used to support learn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ebsites related to Pattern Blocks can be found at the Near North District Web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sb1.edu.on.ca   ~ Navigation:  teachers &gt; classroom resources &gt;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 handout we received at the Regional conference in North Bay, April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ing Understanding:  when you ask a student what is 2, 5, or 7 they can visualize what each represents but when you ask them what is 1/6, most people would ask 1/6 of what?  The discussion of what does 1 or a whole actually represent should tak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y understand the concept of 1 and that one can be whatever you choose it to be, questions like these will be addr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ttern blocks on your table complete the first bullet (answer:  1 1/2 , answers can be shown using pen and paper or displaying their solution with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ttern blocks on your table complete the second bullet (answer:  16, answers can be shown using pen and paper or displaying their solution with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pattern blocks on your table complete the third bullet (answers can be shown using pen and paper or displaying their solution with blocks, and there should be a variety of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12 green triangles (12/36), 6 blue rhombuses (12/36), and 4 red trapezoids (12/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we have such a preconceived idea that the whole should be big, and the fractional parts should be smaller, (the smaller portions can be the whole) that people have difficulty with understanding or visualizing the concept of f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Each participant reflects and records an activity for the pattern blocks on the first line of the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Teachers circulate around the room exchanging their good idea for 7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By the time they leave all teachers have 8 good ideas to take ho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3A9A4-822C-40CF-93E7-9FBA94952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E52E0-38A0-4E07-A982-EBE4345E9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23CCE-85EE-4D52-AC77-53FAC2261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67B88-AC2E-436B-9FD4-B6D2ACAD2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671B5-2511-4FF1-9A77-E23B4461F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9226C-EE17-485B-B32E-B898C724C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6D335-6DA1-43A9-9E53-716057F0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89EC-EF2C-4BCF-90B3-68FAFCAFD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D494-F0DC-4C48-9816-232A61FB2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833D-DE01-4E64-B4F2-6F5AAE1B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D293-B931-4A90-A67E-71A9C26C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B8F4A-547B-4F43-A2E9-723A160DD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0389-142F-4CA2-BDB4-17C434046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6294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Pattern Block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evelop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685800" y="2209680"/>
            <a:ext cx="3530520" cy="3861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3809520" y="1905120"/>
            <a:ext cx="44197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Teachers who differentiate instruction focus on their role as coach or mentor.</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	</a:t>
            </a:r>
            <a:r>
              <a:rPr b="1" lang="en-US" sz="2000" spc="-1" strike="noStrike">
                <a:solidFill>
                  <a:srgbClr val="6342ff"/>
                </a:solidFill>
                <a:latin typeface="Arial"/>
              </a:rPr>
              <a:t>Carol Ann Tomlinson, 2001</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pic>
        <p:nvPicPr>
          <p:cNvPr id="56" name="" descr=""/>
          <p:cNvPicPr/>
          <p:nvPr/>
        </p:nvPicPr>
        <p:blipFill>
          <a:blip r:embed="rId1"/>
          <a:stretch/>
        </p:blipFill>
        <p:spPr>
          <a:xfrm>
            <a:off x="762120" y="1905120"/>
            <a:ext cx="2509560" cy="327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Pattern Blocks</a:t>
            </a:r>
            <a:endParaRPr b="1" lang="en-US" sz="4400" spc="-1" strike="noStrike">
              <a:solidFill>
                <a:srgbClr val="ff424d"/>
              </a:solidFill>
              <a:latin typeface="Arial"/>
            </a:endParaRPr>
          </a:p>
        </p:txBody>
      </p:sp>
      <p:pic>
        <p:nvPicPr>
          <p:cNvPr id="58" name="" descr=""/>
          <p:cNvPicPr/>
          <p:nvPr/>
        </p:nvPicPr>
        <p:blipFill>
          <a:blip r:embed="rId1"/>
          <a:stretch/>
        </p:blipFill>
        <p:spPr>
          <a:xfrm>
            <a:off x="990720" y="2133720"/>
            <a:ext cx="3530520" cy="3860640"/>
          </a:xfrm>
          <a:prstGeom prst="rect">
            <a:avLst/>
          </a:prstGeom>
          <a:ln w="19080">
            <a:solidFill>
              <a:srgbClr val="000000"/>
            </a:solidFill>
            <a:miter/>
          </a:ln>
        </p:spPr>
      </p:pic>
      <p:sp>
        <p:nvSpPr>
          <p:cNvPr id="59" name=""/>
          <p:cNvSpPr/>
          <p:nvPr/>
        </p:nvSpPr>
        <p:spPr>
          <a:xfrm>
            <a:off x="480060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301"/>
                </a:moveTo>
                <a:lnTo>
                  <a:pt x="7411" y="7301"/>
                </a:lnTo>
                <a:lnTo>
                  <a:pt x="7794" y="7667"/>
                </a:lnTo>
                <a:lnTo>
                  <a:pt x="17002" y="7667"/>
                </a:lnTo>
                <a:lnTo>
                  <a:pt x="17559" y="8224"/>
                </a:lnTo>
                <a:lnTo>
                  <a:pt x="17559" y="8772"/>
                </a:lnTo>
                <a:lnTo>
                  <a:pt x="19404" y="8772"/>
                </a:lnTo>
                <a:lnTo>
                  <a:pt x="19770" y="8224"/>
                </a:lnTo>
                <a:lnTo>
                  <a:pt x="20510" y="8224"/>
                </a:lnTo>
                <a:lnTo>
                  <a:pt x="20510" y="13376"/>
                </a:lnTo>
                <a:lnTo>
                  <a:pt x="19770" y="13376"/>
                </a:lnTo>
                <a:lnTo>
                  <a:pt x="19404" y="12828"/>
                </a:lnTo>
                <a:lnTo>
                  <a:pt x="17559" y="12828"/>
                </a:lnTo>
                <a:lnTo>
                  <a:pt x="17559" y="14107"/>
                </a:lnTo>
                <a:lnTo>
                  <a:pt x="7976" y="14107"/>
                </a:lnTo>
                <a:lnTo>
                  <a:pt x="7976" y="9877"/>
                </a:lnTo>
                <a:lnTo>
                  <a:pt x="7794" y="9877"/>
                </a:lnTo>
                <a:lnTo>
                  <a:pt x="7411" y="10243"/>
                </a:lnTo>
                <a:lnTo>
                  <a:pt x="6497" y="10243"/>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Pattern Block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ttp://matti.usu.edu/nlvm/nav/vlibrary.html</a:t>
            </a:r>
            <a:endParaRPr b="1" lang="en-US" sz="2400" spc="-1" strike="noStrike">
              <a:solidFill>
                <a:srgbClr val="6342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pic>
        <p:nvPicPr>
          <p:cNvPr id="62" name="" descr=""/>
          <p:cNvPicPr/>
          <p:nvPr/>
        </p:nvPicPr>
        <p:blipFill>
          <a:blip r:embed="rId1"/>
          <a:stretch/>
        </p:blipFill>
        <p:spPr>
          <a:xfrm>
            <a:off x="762120" y="2514600"/>
            <a:ext cx="4114800" cy="3598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4" name="PlaceHolder 2"/>
          <p:cNvSpPr>
            <a:spLocks noGrp="1"/>
          </p:cNvSpPr>
          <p:nvPr>
            <p:ph/>
          </p:nvPr>
        </p:nvSpPr>
        <p:spPr>
          <a:xfrm>
            <a:off x="609480" y="2133360"/>
            <a:ext cx="7772400" cy="419076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If a green triangle represents ½ then what is the value of the red trapezoid?</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If the green triangle represents 2 then what is the value of a yellow hexagon plus a blue parallelogram?</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ow many different ways can you use pattern blocks to determine 1/2 + 1/6?</a:t>
            </a:r>
            <a:endParaRPr b="1" lang="en-US" sz="2400" spc="-1" strike="noStrike">
              <a:solidFill>
                <a:srgbClr val="6342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4">
                                            <p:txEl>
                                              <p:pRg st="0" end="0"/>
                                            </p:txEl>
                                          </p:spTgt>
                                        </p:tgtEl>
                                        <p:attrNameLst>
                                          <p:attrName>style.visibility</p:attrName>
                                        </p:attrNameLst>
                                      </p:cBhvr>
                                      <p:to>
                                        <p:strVal val="visible"/>
                                      </p:to>
                                    </p:set>
                                    <p:animEffect filter="box(out)" transition="in">
                                      <p:cBhvr additive="repl">
                                        <p:cTn id="7" dur="500"/>
                                        <p:tgtEl>
                                          <p:spTgt spid="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4">
                                            <p:txEl>
                                              <p:pRg st="1" end="1"/>
                                            </p:txEl>
                                          </p:spTgt>
                                        </p:tgtEl>
                                        <p:attrNameLst>
                                          <p:attrName>style.visibility</p:attrName>
                                        </p:attrNameLst>
                                      </p:cBhvr>
                                      <p:to>
                                        <p:strVal val="visible"/>
                                      </p:to>
                                    </p:set>
                                    <p:animEffect filter="box(out)" transition="in">
                                      <p:cBhvr additive="repl">
                                        <p:cTn id="12" dur="500"/>
                                        <p:tgtEl>
                                          <p:spTgt spid="6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4">
                                            <p:txEl>
                                              <p:pRg st="2" end="2"/>
                                            </p:txEl>
                                          </p:spTgt>
                                        </p:tgtEl>
                                        <p:attrNameLst>
                                          <p:attrName>style.visibility</p:attrName>
                                        </p:attrNameLst>
                                      </p:cBhvr>
                                      <p:to>
                                        <p:strVal val="visible"/>
                                      </p:to>
                                    </p:set>
                                    <p:animEffect filter="box(out)" transition="in">
                                      <p:cBhvr additive="repl">
                                        <p:cTn id="17"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Working with partners use the pattern blocks to solve this fraction puzzle.  The fractions refer to the area of each shape:</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Build an equilateral triangle that is 1/3 green, 1/3 blue, and 1/3 red.</a:t>
            </a: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on</a:t>
            </a:r>
            <a:endParaRPr b="1" lang="en-US" sz="4400" spc="-1" strike="noStrike">
              <a:solidFill>
                <a:srgbClr val="ff424d"/>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9"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342ff"/>
                </a:solidFill>
                <a:uFillTx/>
                <a:latin typeface="Arial"/>
              </a:rPr>
              <a:t>Give One Get One</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Describe another activity using pattern blocks in a math les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71" name=""/>
          <p:cNvSpPr/>
          <p:nvPr/>
        </p:nvSpPr>
        <p:spPr>
          <a:xfrm>
            <a:off x="2438280" y="2133720"/>
            <a:ext cx="55627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 of the websites from the LMS manipulative sheet</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Word Wall (p. 22–26, </a:t>
            </a:r>
            <a:r>
              <a:rPr b="1" i="1" lang="en-US" sz="2400" spc="-1" strike="noStrike">
                <a:solidFill>
                  <a:srgbClr val="6342ff"/>
                </a:solidFill>
                <a:latin typeface="Arial"/>
              </a:rPr>
              <a:t>Think Literacy: Mathematics</a:t>
            </a:r>
            <a:r>
              <a:rPr b="1" lang="en-US" sz="2400" spc="-1" strike="noStrike">
                <a:solidFill>
                  <a:srgbClr val="6342ff"/>
                </a:solidFill>
                <a:latin typeface="Arial"/>
              </a:rPr>
              <a:t>)</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838080" y="1905120"/>
            <a:ext cx="1352520" cy="1752480"/>
          </a:xfrm>
          <a:prstGeom prst="rect">
            <a:avLst/>
          </a:prstGeom>
          <a:ln w="19080">
            <a:solidFill>
              <a:srgbClr val="000000"/>
            </a:solidFill>
            <a:miter/>
          </a:ln>
        </p:spPr>
      </p:pic>
      <p:pic>
        <p:nvPicPr>
          <p:cNvPr id="73" name="" descr=""/>
          <p:cNvPicPr/>
          <p:nvPr/>
        </p:nvPicPr>
        <p:blipFill>
          <a:blip r:embed="rId2"/>
          <a:stretch/>
        </p:blipFill>
        <p:spPr>
          <a:xfrm>
            <a:off x="838080" y="3886200"/>
            <a:ext cx="140184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75" name="PlaceHolder 2"/>
          <p:cNvSpPr>
            <a:spLocks noGrp="1"/>
          </p:cNvSpPr>
          <p:nvPr>
            <p:ph/>
          </p:nvPr>
        </p:nvSpPr>
        <p:spPr>
          <a:xfrm>
            <a:off x="1523880" y="1905120"/>
            <a:ext cx="601992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76" name="" descr=""/>
          <p:cNvPicPr/>
          <p:nvPr/>
        </p:nvPicPr>
        <p:blipFill>
          <a:blip r:embed="rId1"/>
          <a:stretch/>
        </p:blipFill>
        <p:spPr>
          <a:xfrm>
            <a:off x="533520" y="4248000"/>
            <a:ext cx="1981080" cy="1981440"/>
          </a:xfrm>
          <a:prstGeom prst="rect">
            <a:avLst/>
          </a:prstGeom>
          <a:ln w="0">
            <a:noFill/>
          </a:ln>
        </p:spPr>
      </p:pic>
      <p:pic>
        <p:nvPicPr>
          <p:cNvPr id="77" name="" descr=""/>
          <p:cNvPicPr/>
          <p:nvPr/>
        </p:nvPicPr>
        <p:blipFill>
          <a:blip r:embed="rId2"/>
          <a:stretch/>
        </p:blipFill>
        <p:spPr>
          <a:xfrm>
            <a:off x="2590920" y="4191120"/>
            <a:ext cx="3705120" cy="2066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76"/>
                                        </p:tgtEl>
                                        <p:attrNameLst>
                                          <p:attrName>style.visibility</p:attrName>
                                        </p:attrNameLst>
                                      </p:cBhvr>
                                      <p:to>
                                        <p:strVal val="visible"/>
                                      </p:to>
                                    </p:set>
                                    <p:anim calcmode="lin" valueType="num">
                                      <p:cBhvr additive="base">
                                        <p:cTn id="24" dur="500" fill="hold"/>
                                        <p:tgtEl>
                                          <p:spTgt spid="76"/>
                                        </p:tgtEl>
                                        <p:attrNameLst>
                                          <p:attrName>ppt_x</p:attrName>
                                        </p:attrNameLst>
                                      </p:cBhvr>
                                      <p:tavLst>
                                        <p:tav tm="0">
                                          <p:val>
                                            <p:strVal val="0-#ppt_w/2"/>
                                          </p:val>
                                        </p:tav>
                                        <p:tav tm="100000">
                                          <p:val>
                                            <p:strVal val="#ppt_x"/>
                                          </p:val>
                                        </p:tav>
                                      </p:tavLst>
                                    </p:anim>
                                    <p:anim calcmode="lin" valueType="num">
                                      <p:cBhvr additive="base">
                                        <p:cTn id="25"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50:21Z</dcterms:modified>
  <cp:revision>32</cp:revision>
  <dc:subject/>
  <dc:title>Using Manipulatives to Build Understanding</dc:title>
</cp:coreProperties>
</file>